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C1A-D6BE-4840-A358-C1431402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274-5D38-4A6E-8A3F-2AC3C9F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24F-B570-4DEF-A263-110F2E58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6ED-0B97-487E-9FA5-DF38AAB4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F76C-3949-470F-BA18-DFE8AD70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D14-5B0E-4512-A494-DCA08E3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59F0-0292-44AA-920A-C219731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AEB3-1146-4877-8922-D536C17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D0F9-EC63-4F9E-91DA-B669DCAE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4BA-3007-4A84-A653-7D1FFD83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1B58-8921-4902-9B4A-38A1C7F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64D-8338-43E7-AE71-50D548A3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4933-7FA6-4DE0-832F-E1AA8223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5364-3B80-48E9-8CC6-2C37CDDD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2C41-5C84-4F04-BD11-54BD22C3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5E6B-8408-4967-A153-C04C2106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A2BE-243F-401F-AC99-AEB30DD9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C73E-99AD-46DA-843E-66216DFC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FE20-AE4E-4CA6-B7FE-F75CC82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4D04-E192-4030-AB54-29BFA2AE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F3F8-0244-47A3-8839-3ED5BC54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79A7-3B0A-43A9-BAE5-4EAD3C7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022-597C-436C-BA9C-1E0B3D9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6EAF-F82B-4606-9E9F-F683BC3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A153-281F-40CF-82C9-D4F87C0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CFD9-F975-4DA7-A8FC-6DB4E5F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342D-6011-4082-BD83-F302138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F1FE-4BD6-4A96-BE23-CAEAAD27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B512-8DE0-46A2-AFDA-213680E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FC00-5972-43D2-BEB5-039685EB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EB82-7B28-450D-861E-37FF71B8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EC87-B339-4FA7-8BD2-7C117925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E809-3FD0-4993-B685-2A968002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489-377B-4B41-880C-894C985E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2D8F-009F-400D-ABFC-70B7092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A6F6-6D04-4F25-B5D2-CC2BBC8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4C8F-0BB3-4C6B-81EA-D02F5831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2DC1-3A95-42EC-B8DB-79AB83A5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40B9-A113-41A1-BF34-E870413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1FF5-CDDC-4C59-A7F7-3C740DEF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D5FA8-9ACF-4940-BD8C-365C83B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30B0-236C-430E-B759-E2F1E82A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CDF1-81E4-4392-B537-26F0A0CD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B0E3-69FD-4814-B92B-804B00CF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51D-2AA8-4FC6-8507-A521B73A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A621-6F32-4DD2-8015-5B5551C8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69DF-3AB0-4ED8-8C9A-4471F8C3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BF5B-88CF-4AE0-BCBB-5BA66CB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A9BA-3EF1-4DA0-93D5-0BD143D3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39D0-5D8F-4CD7-A9E2-B50F298D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EBB9-2584-457D-BD06-81BA424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46CF-E02F-47F3-ACD1-874EC2F4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B3E3-6679-4570-B020-7FA2C9C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32156-76EC-4BF7-8B62-1E73526B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7EA22-7CEF-4BF9-8F7C-F875DEC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0F7-02D2-43E1-B48C-54B1955E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CD9F-1221-4827-A269-BBB44263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891-097B-48E8-9380-95EA3DF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C7A-8062-46B3-86B6-EC4F5E0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716-CF71-4C39-9EA3-FABC274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D376-99AF-4E89-A8A6-FBB671B3278C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620A-B50F-4092-BDDA-B44D42DA40BD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4B48-4FEB-49F6-8FFF-9A830FFACA31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12DC-8227-4939-B5A8-A5209CB85F75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F9B-20EC-4BFD-A3C3-D54EFCAAFD9D}" type="slidenum">
              <a:rPr b="0" lang="en-US" sz="1200" spc="-1" strike="noStrike">
                <a:solidFill>
                  <a:srgbClr val="8daec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920" y="5638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ункция 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«математический портрет» закономерностей природы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 Так ли это? </a:t>
            </a:r>
            <a:endParaRPr b="0" lang="en-US" sz="2900" spc="-1" strike="noStrike">
              <a:solidFill>
                <a:srgbClr val="495a74"/>
              </a:solidFill>
              <a:latin typeface="Calibri"/>
            </a:endParaRPr>
          </a:p>
        </p:txBody>
      </p:sp>
      <p:pic>
        <p:nvPicPr>
          <p:cNvPr id="258" name="Подзаголовок 4" descr=""/>
          <p:cNvPicPr/>
          <p:nvPr/>
        </p:nvPicPr>
        <p:blipFill>
          <a:blip r:embed="rId1"/>
          <a:stretch/>
        </p:blipFill>
        <p:spPr>
          <a:xfrm>
            <a:off x="1523880" y="324000"/>
            <a:ext cx="6791400" cy="113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j0250467"/>
          <p:cNvPicPr/>
          <p:nvPr/>
        </p:nvPicPr>
        <p:blipFill>
          <a:blip r:embed="rId2"/>
          <a:stretch/>
        </p:blipFill>
        <p:spPr>
          <a:xfrm>
            <a:off x="3352680" y="1447920"/>
            <a:ext cx="3033720" cy="2733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Monotype Corsiva"/>
              </a:rPr>
              <a:t>Использованная литература:</a:t>
            </a:r>
            <a:endParaRPr b="0" lang="en-US" sz="48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и функций: Справочник / Вирченко Н. А., Ляшко И. И., Швецов К. И. – Киев: Наук. Думка, 1979. – 320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 графики: Дидактические материалы по курсу алгебры и начала анализа для 10-11 кл. ср. шк. / Под ред. М. И. Башмакова. – СПб, 1998, - 96 с.: 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Халуева Математическое кафе. «Функция. Преобразование графиков». / газета «Математика» №89 2002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Н. Антинов, О. П. Боковнев Выделение области координатной плоскости. / журнал «Математика в школе» №5 2001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extBox 1" descr=""/>
          <p:cNvPicPr/>
          <p:nvPr/>
        </p:nvPicPr>
        <p:blipFill>
          <a:blip r:embed="rId1"/>
          <a:stretch/>
        </p:blipFill>
        <p:spPr>
          <a:xfrm>
            <a:off x="652320" y="2030400"/>
            <a:ext cx="8510760" cy="138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extBox 5" descr=""/>
          <p:cNvPicPr/>
          <p:nvPr/>
        </p:nvPicPr>
        <p:blipFill>
          <a:blip r:embed="rId1"/>
          <a:stretch/>
        </p:blipFill>
        <p:spPr>
          <a:xfrm>
            <a:off x="1206360" y="646200"/>
            <a:ext cx="7851960" cy="418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2971800" cy="226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66"/>
                </a:solidFill>
                <a:latin typeface="Monotype Corsiva"/>
              </a:rPr>
              <a:t>Цель:</a:t>
            </a:r>
            <a:endParaRPr b="0" lang="en-US" sz="43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143000" y="1066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где же встречается функциональная зависимость в окружающем нас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143000" y="2362320"/>
            <a:ext cx="746748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66"/>
                </a:solidFill>
                <a:latin typeface="Monotype Corsiva"/>
              </a:rPr>
              <a:t>Задача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имеры функциональной зависимости в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3366"/>
                </a:solidFill>
                <a:latin typeface="Monotype Corsiva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590920" cy="228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62080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5335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Ход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нформа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99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384804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66320" y="380520"/>
            <a:ext cx="7867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Примеры использования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1920" indent="-257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медицин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1920" indent="-257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, исследующий больного, может по кардиограмме судить о нарушениях серде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735360" cy="220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95280" y="45684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природе и техни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гарифмиче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ир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 rot="181800">
            <a:off x="5162400" y="1277640"/>
            <a:ext cx="2286000" cy="222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2666880" y="3733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2160360" cy="2020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6"/>
          <p:cNvSpPr/>
          <p:nvPr/>
        </p:nvSpPr>
        <p:spPr>
          <a:xfrm>
            <a:off x="3101400" y="38862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66"/>
                </a:solidFill>
                <a:latin typeface="Monotype Corsiva"/>
                <a:ea typeface="Times New Roman"/>
              </a:rPr>
              <a:t>В техн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01032009"/>
          <p:cNvPicPr/>
          <p:nvPr/>
        </p:nvPicPr>
        <p:blipFill>
          <a:blip r:embed="rId3"/>
          <a:srcRect l="0" t="0" r="17970" b="0"/>
          <a:stretch/>
        </p:blipFill>
        <p:spPr>
          <a:xfrm>
            <a:off x="6553080" y="3886200"/>
            <a:ext cx="2144880" cy="1887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8"/>
          <p:cNvSpPr/>
          <p:nvPr/>
        </p:nvSpPr>
        <p:spPr>
          <a:xfrm>
            <a:off x="4876920" y="5562720"/>
            <a:ext cx="211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66"/>
                </a:solidFill>
                <a:latin typeface="Monotype Corsiva"/>
              </a:rPr>
              <a:t>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066320" y="609480"/>
            <a:ext cx="780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чены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-сейсмолог, анализируя сейсмограмму, узнает, когда было землетрясение, где оно произошло, определяет силу и характер толч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3205080" cy="2362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5105520" y="3330720"/>
            <a:ext cx="3352680" cy="238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0360" y="304560"/>
            <a:ext cx="7499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220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литератур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20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Monotype Corsiva"/>
                <a:ea typeface="Times New Roman"/>
              </a:rPr>
              <a:t>«Чем дальше в лес, тем больше др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20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4" descr=""/>
          <p:cNvPicPr/>
          <p:nvPr/>
        </p:nvPicPr>
        <p:blipFill>
          <a:blip r:embed="rId1"/>
          <a:srcRect l="46980" t="34488" r="2835" b="3034"/>
          <a:stretch/>
        </p:blipFill>
        <p:spPr>
          <a:xfrm>
            <a:off x="1295280" y="1905120"/>
            <a:ext cx="2981520" cy="27432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5"/>
          <p:cNvSpPr/>
          <p:nvPr/>
        </p:nvSpPr>
        <p:spPr>
          <a:xfrm>
            <a:off x="1219320" y="50292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фике показано, как нарастает количество дров по мере продвижения в глубь леса - от опушки до чащо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6" descr=""/>
          <p:cNvPicPr/>
          <p:nvPr/>
        </p:nvPicPr>
        <p:blipFill>
          <a:blip r:embed="rId2"/>
          <a:srcRect l="25333" t="31055" r="25120" b="10709"/>
          <a:stretch/>
        </p:blipFill>
        <p:spPr>
          <a:xfrm>
            <a:off x="5410080" y="1905120"/>
            <a:ext cx="294336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Monotype Corsiva"/>
              </a:rPr>
              <a:t>Выводы:</a:t>
            </a:r>
            <a:endParaRPr b="0" lang="en-US" sz="4800" spc="-1" strike="noStrike">
              <a:solidFill>
                <a:srgbClr val="495a74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4453"/>
                </a:solidFill>
                <a:latin typeface="Calibri"/>
              </a:rPr>
              <a:t>В ходе моей работы я установил, что  это далеко не все сферы, где можно использовать графики функций. Наука неисчерпаема, но этим она и интересна. Познание её приносит человеку настоящую, ни в чем несравнимую рад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kсанkа</dc:creator>
  <dc:description/>
  <dc:language>en-US</dc:language>
  <cp:lastModifiedBy>Оксана</cp:lastModifiedBy>
  <dcterms:modified xsi:type="dcterms:W3CDTF">2010-05-24T06:59:34Z</dcterms:modified>
  <cp:revision>53</cp:revision>
  <dc:subject/>
  <dc:title>Солнце, вода, тепло-это энергия?</dc:title>
</cp:coreProperties>
</file>